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AC1-F86E-4BC5-B0C3-36EDB4FA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FAC-18EE-4A07-A3FB-2CEBC9C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F60-88F7-4676-A9F4-302DAB83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871-F107-4A2D-B939-438621C8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B04-8A53-48BE-BDB6-677F290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BCB-C539-4F6B-8799-1A5537D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A6C-AD93-4526-91B8-27FEF0C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484-E615-47CD-977F-3C40B72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400-2614-476C-ABB0-BB38D78C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EAF-1DBB-40B2-AD58-A12AAFF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C40-9CBB-4220-8624-E576D3B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DC0-7F55-4991-82A6-2526EF7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D008-ECEC-4098-9EC1-B83E5298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799308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РРЕКЦИОНННАЯ РАБОТА НА УРОКАХ СБО КАК ОДИН ИЗ ПУТЕЙ ФОРМИРОВАНИЯ СОЦИАЛЬНОЙ КОМПЕТЕНТНОСТИ УЧАЩИХСЯ С ОСОБ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ЫМИ НУЖДАМИ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8720" y="5084640"/>
            <a:ext cx="4175280" cy="1341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подаватель С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сько Марина Иван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СКО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ида школы –интерн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 Амур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39800"/>
            <a:ext cx="6408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Коррекционная деятельность может осуществляться чере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дактические игры, которые могут использоваться на любом этап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нировочные упражнения по усвоению и отработке отдельных трудовых действий, двигательных прие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ирование реальных ситуаций может применяться при изучении люб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проблемных ситу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логичес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457280" cy="185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20000" y="5013360"/>
            <a:ext cx="159048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Упражнения на тренировку распределения и избирательности вним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8569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буквенного текста вставлены слова. Ребенок должен найти и подчеркнуть эти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лабдниткауцнаперстокджножницыг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клашщперецждкартофельэыморковьг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2057400" cy="18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68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68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70436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Развитие умения анализировать написанные слова, "видеть" буквы в них, а в результате сформировать внимательность, является игра, в основе своей имеющая тест "корректурная проба». Для нее берутся старые, пригодные лишь для макулатуры книги с крупным шрифтом. В течение 2 минут  детям предлагается вычеркнуть все встретившиеся буквы «а» или любая другая буква. Затем взаимопроверка. Получает жетончик тот, кто не допустил ошибки и нашел ошибку у друг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Следующий этап - одну букву в строчке вычеркивать, а другую подчеркивать. Например, «е» вычеркиваем, а букву «м» подчерк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Упражнения, направленные на способность установления связи между элементами материала (низкий уровень развития памят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даете детям несколько слов, их необходимо перегруппировать, объединяя по какому-либо признаку, чтобы облегчит запоминание; а потом придумать рассказ, которая свела бы их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а , уборка, пылесос, девочки, прогул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а игра является хорошей активизацией и проверкой вним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ол, нос, потол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 очень проста, ее правила легко объяснить. Правой рукой покажите на пол назовите: «Пол». Затем покажите на нос (лучше будет, если вы ее коснетесь), скажите: «Нос», а потом поднимите руку вверх и произнесите: «Потолок». Делайте это не торопясь. Пусть ребята показывают вместе с вами, а называть будете вы. Ваша цель - запутать ребят. Скажите «Нос», а покажите в это время на потолок. Ребята должны внимательно слушать и показывать прави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68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68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68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68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Упражнения на развитие вербального мышления, его скорости, гибкости; 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развитие способности оперировать образами и понятиям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жнение «Три слова.»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рутся наугад три слова из темы урока. Необходимо составить как можно больше предложений, включающих предлагаемые слова Можно менять падежи, дополнять предложение другими словами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вариант: картофель, соль, тарелк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вариант: нитка, тесьма, фартук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у можно усложнить, если предложения будут составляться так, чтобы они образовали небольшой коллективный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Упражнение на развитие вербального и абстрактно-логического мышления; формирование способности к мысленному анализу и синтезу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628280"/>
            <a:ext cx="6985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пособы применения предмета.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Задается какой-нибудь предмет, необходимо назвать как можно больше способов его применения. Причем, можно называть способы, взятые из реальной жизни и способы придум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пример:  помид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алат, борщ, украшение к блюду, фаршированный помидор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ррекция низкого уровня развития восприя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ориентировки в пространств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490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детям: перед вами  отдельные детали предмета, вы должны соединить их так, чтобы получился заданный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Упражнение на развитие вербального интеллекта; </a:t>
            </a:r>
            <a:br>
              <a:rPr sz="2000"/>
            </a:b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развитие способности к вербальному анализу , умению осуществлять доказательств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ется определенная ситуация, участники игры должны придумать причины ее возникновения, а также развить ситуацию дальше, чтобы показать ее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 :Вернувшись из магазина, ты обнаружил, что идет дым из квартиры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951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ая игра для развития памяти, внимания и ре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79640" y="1988640"/>
            <a:ext cx="4902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 игры: Задание состоит в том, что ребенка просят по памяти описать какой-либо изучаемых предметов так, чтобы товарищи угадали. При этом нельзя смотреть на этот предмет и назыв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9440" y="2490840"/>
            <a:ext cx="185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Коррекция личности ребенка с нарушением интеллекта средствами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образования является основной функцией специальной (коррекционной) школы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вида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Эффективность исправления недостатков развития зависит от правильной постановки всего учебно-воспитательного процесса в школе и от применения специфически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343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ирование реальных ситуаци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омощью упражнений формируются двигательные приемы, без владения которыми невозможно правильное выполнение различных рабо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3305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4000" y="1828800"/>
            <a:ext cx="64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показателей успешности коррекционной работы может служить уровень самостоятельности учащихся при выполнении новых учебных и трудов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 система коррекционно – педагогической работы призвана реабилитировать и социально адаптировать аномального школьника к реалиям окружающего мира, сделать его полноправным и активным тружеником, который наравне со всеми людьми может включиться в трудовую и общественную жизнь и приносить пользу 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4518000"/>
            <a:ext cx="2266920" cy="23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93080" y="115920"/>
            <a:ext cx="1871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ю коррекционной работы является исправление присущих умственно отсталым детям недостатков психофизического развития средствами образования и дальнейшее развити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784600" cy="28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95280" y="765000"/>
            <a:ext cx="8208000" cy="4462920"/>
            <a:chOff x="395280" y="765000"/>
            <a:chExt cx="8208000" cy="4462920"/>
          </a:xfrm>
        </p:grpSpPr>
        <p:cxnSp>
          <p:nvCxnSpPr>
            <p:cNvPr id="49" name="_s3100"/>
            <p:cNvCxnSpPr>
              <a:stCxn id="50" idx="0"/>
              <a:endCxn id="51" idx="2"/>
            </p:cNvCxnSpPr>
            <p:nvPr/>
          </p:nvCxnSpPr>
          <p:spPr>
            <a:xfrm flipV="1" rot="16200000">
              <a:off x="5157720" y="189108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098"/>
            <p:cNvCxnSpPr>
              <a:stCxn id="53" idx="0"/>
              <a:endCxn id="51" idx="2"/>
            </p:cNvCxnSpPr>
            <p:nvPr/>
          </p:nvCxnSpPr>
          <p:spPr>
            <a:xfrm flipH="1" flipV="1" rot="5400000">
              <a:off x="2948040" y="189072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3094"/>
            <p:cNvSpPr/>
            <p:nvPr/>
          </p:nvSpPr>
          <p:spPr>
            <a:xfrm>
              <a:off x="2605680" y="765000"/>
              <a:ext cx="378828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Коррекц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фектов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95"/>
            <p:cNvSpPr/>
            <p:nvPr/>
          </p:nvSpPr>
          <p:spPr>
            <a:xfrm>
              <a:off x="395280" y="3442680"/>
              <a:ext cx="378828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бщая коррекц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97"/>
            <p:cNvSpPr/>
            <p:nvPr/>
          </p:nvSpPr>
          <p:spPr>
            <a:xfrm>
              <a:off x="4815000" y="3442680"/>
              <a:ext cx="378828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бщая коррекционно-развивающая работа со всеми учащимися заключает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исправлении дефектов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в повышении интеллектуального уровня школьников с нарушениям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в развитии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всех психических фун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социально-бытовых и коммуникативных навы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Индивидуальная коррекция обусловлена тем, что основной дефект у умственно отсталых детей проявляется неодинаково и, кроме основного, есть сопутствующие дефекты разной степе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щая коррекционная работа проводится обычно фронтально, индивидуальная коррекция - с отдельными учениками или с небольшой групп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705720" y="271440"/>
            <a:ext cx="1827000" cy="13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138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оррекция отдельных сторон психиче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Развитие основных мыслительных опер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оррекция нарушений в развитии эмоционально-личностной сферы (релаксационные упражнения для мимики лица, драматизация, ролевые игры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Развитие речи, владение технико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Расширение представлений об окружающем и обогащение сло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овершенствование движений и сенсор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Развитие различных видов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Коррекция индивидуальных пробелов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67640" y="4869000"/>
          <a:ext cx="130824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4869000"/>
                    <a:ext cx="1308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 txBox="1"/>
          <p:nvPr/>
        </p:nvSpPr>
        <p:spPr>
          <a:xfrm>
            <a:off x="324000" y="692280"/>
            <a:ext cx="81388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направления коррекционной работы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Коррекционная работа с учащимися строится на принцип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3168720" cy="1871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сочетания сл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3500280"/>
            <a:ext cx="3168720" cy="1872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наглядного обр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4986360"/>
            <a:ext cx="3168720" cy="1871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акт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действ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0:38:52Z</dcterms:created>
  <dc:creator>Паток2</dc:creator>
  <dc:description/>
  <dc:language>en-US</dc:language>
  <cp:lastModifiedBy>www.PHILka.RU</cp:lastModifiedBy>
  <dcterms:modified xsi:type="dcterms:W3CDTF">2010-11-23T19:19:56Z</dcterms:modified>
  <cp:revision>33</cp:revision>
  <dc:subject/>
  <dc:title>Группа №3  </dc:title>
</cp:coreProperties>
</file>